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014B9-A798-4726-895C-06F2068AA29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31EF2-0850-4146-82DA-AF31A8CA469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02CB9-1957-4485-8B96-A91CD46A64A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A31F0-F10D-4225-8900-CF4EF7D083A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B283B-65FB-483D-BCC5-837544C7F86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8651D-9A44-44F0-A5DB-97268964A3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CE987-6197-4CE5-881F-C787D1040E8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5673F-E6D9-4B54-AA7D-FAEBE93F16D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5FB70-9A87-4AD6-A57B-F874C6708AA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B420C-6D5B-427E-8C44-D03CAD7445F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D16B8-1FAB-4427-B8EF-01F5F0A9685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77E8-9F24-4560-8F11-4947E2D68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46AE-2C3D-4D29-B481-F4C56D558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62E783-7365-4065-9F10-766EBFF10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4DFECE-3C75-4617-8C65-3D2881DD6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226C7E-DB1C-4411-8A56-F16DC8EAC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F9B321-E871-4EE6-98FC-99C58EA8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3F7C1B-CFDC-4AA3-9399-84424CD7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0C6F9B-B86E-4DE3-A3D1-D7FA1BBE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5573C2-097C-40B6-A1DE-5C7DFD117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7549AF-45B2-4430-8FC3-281BE862D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318583-1AAF-42FB-AAFC-AC516A6FD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7E80A1-7356-4D2C-B460-F5AEB6F1D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4A95-4B2C-424F-A97D-819023B9A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6325E2-94F6-4FA1-B83E-15A4E1CAD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2EBA0F-8DE2-4278-871C-0135D7CF2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DC20CB-29CD-4849-8152-BC86AD152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543965-A123-4D9B-98FD-C4DE4D25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0C628E-C3D3-4278-B12F-87FA07EE2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84891E-A75D-474E-BD3A-84DA4AF6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DD0EC1-921D-4B51-B175-999A20A6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B4667E-E11C-4DE8-9AAB-014F61C7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A95698-0CA5-464D-BBD5-B0A8259B6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FFF5F8-58C1-4AD3-963E-17DC254CA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DB41-5D4D-4FAE-AEE8-375E9E157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72F115-65EA-4AE2-BEB6-7B025E527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CDF149-1587-444B-9A01-983A6EDB2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3BA94A-C223-4F8C-B73C-963634B19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69023F-8CC5-47B0-9052-DDF9A03DC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DB06C8-EA77-446F-821C-53B686C51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E2AE2D-69C1-4830-886E-FDF3E457A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1463B6-2953-4DF3-9160-B819AB526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4FF120-A2B7-4A69-96F8-3CD78B5B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208352-DE7F-49BD-980E-1536B946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5E1F30-29CE-4143-9477-EBC3F989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2E330-3E7F-4CB6-A555-820931FBA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2519D5-2A04-4CCD-855B-DF89EFFEE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8875DA-0744-4EF5-B3AC-2D99F5A66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531CA1-7835-46F5-8F0C-6685E700D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55E4DB-A967-42E9-9247-48850A009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F1995A-5087-46C3-82A4-737BAEE69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C5E1A3-1B1C-471C-B018-840C7477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3920A8-7168-49AD-A71D-FBF0DEDDB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F7521B-954E-459B-82F6-672995651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091F44-9460-49EB-9D14-A959204A6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A1AF67-45E5-443B-AE22-98A60F9B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D6F5D-D2E9-48C8-AEAD-C664968E8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A78AC6-BEEB-4411-9F01-45A5318E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7C8E25-5C5C-4CC4-8D11-181DF26C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724C5E-A195-4834-9C3B-5CEA715B5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B5E990-F622-4807-806B-CC6D72480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311713-3B2E-4104-8071-248B94E38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ACB990-4572-4AE0-86DB-20E619089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9242A5-EE34-4C3A-A1F8-05A9359F9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799443-1E52-4049-A913-D8BA9764F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D8CBCE-05BC-4FC8-B87A-5A6607612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B685C4-1A2F-4A3F-8103-5AB966DFF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BA666-E051-4575-93BC-8FBD316AE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DE58A5-0062-415E-9ABB-1B9918BA7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3927F6-EA58-4086-A39C-4E54FB18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A019A5-DFC7-47DA-A31B-E41434A2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E79C69-FAC3-4D91-9A43-87F6E957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837C0B-5788-4738-8D84-AC30EC9FE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88364F-380D-4666-9881-F1670C2B9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7DDE24-EE8C-4AA5-9B1D-A3FD504B2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1240B-2331-4131-8A01-CBF5216B6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87D5E-A389-444F-A161-738A96609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2757D-EF65-4994-85BA-62D721E0A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50366-6F53-4F63-BED2-D6F21C87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C45F-58E1-491F-89F8-82827DA11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D59BE-C39D-4147-8B0D-4A92011E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DD39B-0C57-4A77-8EB1-43D02802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B7427-10D0-4AE5-849B-729A35CBC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E037A-70FB-435C-BC39-BD6B11F44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3B867-164E-4F5C-A491-9FD5BD253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342B4-EBF4-449E-963E-BE1F82D9F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BCCAF-60E1-4F5D-A629-BAA340200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F7819-AE86-4B61-9A3C-450737110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DBA33-8F03-4AD7-B97C-9C0EAD220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6AE1A-EDF5-4ADC-AAE5-A0657C0CB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2EDB-F591-4D3E-93FA-8E8B33320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F18D6-0254-4CB4-A3E3-937F0C07F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C34EB-BB1E-409B-AF8C-F9426BCC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5CF94-C9DB-4D79-A349-0C690A4F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AE6B4-2A65-4895-B9E0-D3AF17BF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E0A23-A0F7-4640-AD3E-3734A4D7E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057FC-9B51-4CE8-96B1-AC2834BCD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FB445-A60A-411D-BAD9-E2B269AAD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F69D4-ED59-462D-8013-3F00F2B29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4F459-2098-4361-9B31-8839A81B8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9C4D6-A32D-4B6B-9CE6-FBDDD113C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0843-EDA3-4DE6-B337-3CF739DDF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8AC46-D1F5-4D4B-BB2A-CD88112B7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CD6C9-C4AF-42E9-A5F0-5F494A54D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22FE0-130A-4A1C-AE46-01381AF66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B7050-105E-4313-88EF-0352A43A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EF321-DA23-4E57-92FC-E14B0A8C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5D14D-54C7-4A95-BDA3-B3ACE7A1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607E8-2B90-40F3-A0F1-834F20493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D8383-56FE-4D06-AE2D-1C59850A7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EFDA3-AADB-4DC3-BBAF-F8524B437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DFD9C-C4F2-46F9-A0F4-056DCED45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EAE1-937B-4E7E-B175-1CC04D449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12145-F129-40EF-9B71-B9E0C9BC3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A05EE-3750-41DC-9FED-9F6DFF1F3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B479C-4B92-4CC3-8E24-CEBDAEE2E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E452B-7B54-448D-8FCB-662563BE6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2F36A-EAAF-4FF0-BC33-22C25BAF4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8CB18-DE99-48E6-8DC0-1001CA9F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49040-FE12-431C-B54A-432DFFD2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76F2F-8D6A-462A-A1BD-7D509FE3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C6639-57F8-4BDC-972B-1A5D9FD90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885E0-760C-4810-B616-2B7E7D46A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C2F4-0D8F-422D-9110-0475CB9A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03228-CFD3-4B73-95D8-731DAFB94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7A7AE-562F-487B-A989-9AA6470F1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49521-DB28-4F04-8497-FE9EF538E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DF25F-428F-4510-820D-31E9FE64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68349-5309-470C-BB1F-52C0F2555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805EF-5F9E-4A7B-8300-52517BA12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47A06-DD0C-47DD-90B3-7D71F4FF6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C28F4-99AB-4ED2-AC6A-F29F9484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4C1E84-042D-4BFE-BAC3-1FF502EF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D5027-2B01-4493-AA26-CF1A2EB2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DD29-FF3F-44CB-813D-D0B33864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C04C6-9006-4F77-84AB-C7041F10B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21CBC-052B-4A7C-83D3-CFD948C42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E4B92-45B8-4FC8-A41E-35CDE2909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272C59-3A08-40A3-A8AE-C9701A996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D623D-9C33-4762-9E97-3D37D5D1B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60CEA-1470-41DF-808D-3D1EEBDEA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431BAF-3191-4BDF-BE5F-B9CDA7920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15981-85B2-455D-99FE-1E0A39512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2FACC7-64F1-43E1-92E2-403451E96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E89F67-CCB4-4F88-96E0-76392430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1467-B4E5-459E-AE82-3CCBE5B5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111FB2-B6C2-43E8-A4B4-23C77725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7C56C-58CF-4C55-9691-C86535D1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B18B8-1132-4576-B273-52F077EB3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A0EC48-646C-408E-8FCF-641B4C043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4534F6-3C73-47B5-B297-083B2EDFA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68ADA2-4C4E-4CA4-BE36-A1226C469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FF84C-8174-4867-B836-739F05315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0D0ED9-3DEB-4223-A176-A0BCC230F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ABE613-7BDE-498D-936E-8C786785C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C37607-8448-4902-9A4F-06A750207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890D-92B5-4BFE-8D75-40DC268D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BBBB80-87B9-42FB-84DD-38BBFA116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FA13BD-A3D0-456A-B379-9F00D63A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AA1896-DA68-4FF2-9C87-F208DA7B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CD663B-D8B4-4B1D-A5B3-9F5CECCB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91BB81-9CD2-4E57-B819-C24E7BD44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817F1D-BCA7-46AC-B2C5-5B1567D3D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DFC5EE-1C5C-4D36-975F-FC2141642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02394A-8284-4F5B-B4AF-802E6C3D4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538C57-AE37-458D-BDCB-FAE2B1BE1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C6CE13-FB8B-4F1D-941C-AFDDCFA86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0F205-8861-4FD5-B7AE-BA173F1881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61CD4-3CB7-4782-9ECE-5AB7AA7C69DD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F3723-A279-4D73-9D33-077F0A804C6E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F4726-0D59-4A9A-B358-37FDAE911168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4DC22-EA2D-46A6-A0A1-67697EA07FAC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5E2AB-D8BA-487B-AFD2-06704863F43C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A5479-BCBA-45B8-8DA8-ED7F04D40A99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676DA-D471-4485-8917-58420A166FB8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899D7-3904-4A51-8864-449AAEC73127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405AA-445F-4561-B6FE-6762EE64C7E7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A9952-C41B-4454-BF05-E831275EE3BE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1B563-D12C-40CD-97FE-CC060233BDBA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82A94-D4F3-443B-A1C5-2A9CFA2CC29F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0" name="Object 2"/>
          <p:cNvGraphicFramePr/>
          <p:nvPr/>
        </p:nvGraphicFramePr>
        <p:xfrm>
          <a:off x="900000" y="404640"/>
          <a:ext cx="6189840" cy="48405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4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404640"/>
                    <a:ext cx="6189840" cy="484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250920" y="5229000"/>
            <a:ext cx="864216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к предмету «Окружающий мир» 1 клас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 Золотухина О.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 «СОШ №71» г. Пер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Прямоугольник 4"/>
          <p:cNvSpPr/>
          <p:nvPr/>
        </p:nvSpPr>
        <p:spPr>
          <a:xfrm>
            <a:off x="447984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Прямоугольник 5"/>
          <p:cNvSpPr/>
          <p:nvPr/>
        </p:nvSpPr>
        <p:spPr>
          <a:xfrm>
            <a:off x="2124000" y="3244680"/>
            <a:ext cx="328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а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ные источн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1371600" y="1052280"/>
            <a:ext cx="640080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Завальнюк Л.Год-пароход М.:Омега, 2001.-43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Рисунок кораблика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ww.weblance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178920" y="4508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такое год?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о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огромный парох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т странный пароход, необычный парох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плывёт не по воде он, он по времени плыв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2" descr=""/>
          <p:cNvPicPr/>
          <p:nvPr/>
        </p:nvPicPr>
        <p:blipFill>
          <a:blip r:embed="rId1"/>
          <a:srcRect l="0" t="12224" r="0" b="12224"/>
          <a:stretch/>
        </p:blipFill>
        <p:spPr>
          <a:xfrm>
            <a:off x="2627280" y="1268280"/>
            <a:ext cx="3816360" cy="29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5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5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5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5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5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5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3121200" cy="1152720"/>
          </a:xfrm>
          <a:prstGeom prst="rect">
            <a:avLst/>
          </a:prstGeom>
          <a:ln w="0">
            <a:noFill/>
          </a:ln>
        </p:spPr>
      </p:pic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456840" y="1434600"/>
            <a:ext cx="368316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т лежит пред ним зима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белом инее дом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2" descr=""/>
          <p:cNvPicPr/>
          <p:nvPr/>
        </p:nvPicPr>
        <p:blipFill>
          <a:blip r:embed="rId2"/>
          <a:stretch/>
        </p:blipFill>
        <p:spPr>
          <a:xfrm>
            <a:off x="4140360" y="620640"/>
            <a:ext cx="4679640" cy="5112000"/>
          </a:xfrm>
          <a:prstGeom prst="rect">
            <a:avLst/>
          </a:prstGeom>
          <a:ln w="0">
            <a:noFill/>
          </a:ln>
        </p:spPr>
      </p:pic>
      <p:pic>
        <p:nvPicPr>
          <p:cNvPr id="550" name="Рисунок 52" descr=""/>
          <p:cNvPicPr/>
          <p:nvPr/>
        </p:nvPicPr>
        <p:blipFill>
          <a:blip r:embed="rId3"/>
          <a:stretch/>
        </p:blipFill>
        <p:spPr>
          <a:xfrm>
            <a:off x="1116000" y="4076640"/>
            <a:ext cx="165564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Заголовок 1" descr=""/>
          <p:cNvPicPr/>
          <p:nvPr/>
        </p:nvPicPr>
        <p:blipFill>
          <a:blip r:embed="rId1"/>
          <a:stretch/>
        </p:blipFill>
        <p:spPr>
          <a:xfrm>
            <a:off x="317520" y="268200"/>
            <a:ext cx="3157560" cy="117000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плывёт он по весне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он капели в тишин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2" descr=""/>
          <p:cNvPicPr/>
          <p:nvPr/>
        </p:nvPicPr>
        <p:blipFill>
          <a:blip r:embed="rId2"/>
          <a:stretch/>
        </p:blipFill>
        <p:spPr>
          <a:xfrm>
            <a:off x="3679920" y="765000"/>
            <a:ext cx="5068800" cy="4819680"/>
          </a:xfrm>
          <a:prstGeom prst="rect">
            <a:avLst/>
          </a:prstGeom>
          <a:ln w="0">
            <a:noFill/>
          </a:ln>
        </p:spPr>
      </p:pic>
      <p:pic>
        <p:nvPicPr>
          <p:cNvPr id="554" name="Рисунок 67" descr=""/>
          <p:cNvPicPr/>
          <p:nvPr/>
        </p:nvPicPr>
        <p:blipFill>
          <a:blip r:embed="rId3"/>
          <a:stretch/>
        </p:blipFill>
        <p:spPr>
          <a:xfrm>
            <a:off x="826920" y="3716280"/>
            <a:ext cx="2089440" cy="244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3024360" cy="1170000"/>
          </a:xfrm>
          <a:prstGeom prst="rect">
            <a:avLst/>
          </a:prstGeom>
          <a:ln w="0">
            <a:noFill/>
          </a:ln>
        </p:spPr>
      </p:pic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плывёт он через лето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нцем вся земля согр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2" descr=""/>
          <p:cNvPicPr/>
          <p:nvPr/>
        </p:nvPicPr>
        <p:blipFill>
          <a:blip r:embed="rId2"/>
          <a:stretch/>
        </p:blipFill>
        <p:spPr>
          <a:xfrm>
            <a:off x="3780000" y="333360"/>
            <a:ext cx="4968720" cy="5256360"/>
          </a:xfrm>
          <a:prstGeom prst="rect">
            <a:avLst/>
          </a:prstGeom>
          <a:ln w="0">
            <a:noFill/>
          </a:ln>
        </p:spPr>
      </p:pic>
      <p:pic>
        <p:nvPicPr>
          <p:cNvPr id="558" name="Рисунок 61" descr=""/>
          <p:cNvPicPr/>
          <p:nvPr/>
        </p:nvPicPr>
        <p:blipFill>
          <a:blip r:embed="rId3"/>
          <a:stretch/>
        </p:blipFill>
        <p:spPr>
          <a:xfrm>
            <a:off x="1042920" y="3860640"/>
            <a:ext cx="1728720" cy="23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3024360" cy="132876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по осен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ывёт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чки в небе, дождь ид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2" descr=""/>
          <p:cNvPicPr/>
          <p:nvPr/>
        </p:nvPicPr>
        <p:blipFill>
          <a:blip r:embed="rId2"/>
          <a:stretch/>
        </p:blipFill>
        <p:spPr>
          <a:xfrm>
            <a:off x="3851280" y="692280"/>
            <a:ext cx="4968720" cy="4897440"/>
          </a:xfrm>
          <a:prstGeom prst="rect">
            <a:avLst/>
          </a:prstGeom>
          <a:ln w="0">
            <a:noFill/>
          </a:ln>
        </p:spPr>
      </p:pic>
      <p:pic>
        <p:nvPicPr>
          <p:cNvPr id="562" name="Рисунок 55" descr=""/>
          <p:cNvPicPr/>
          <p:nvPr/>
        </p:nvPicPr>
        <p:blipFill>
          <a:blip r:embed="rId3"/>
          <a:stretch/>
        </p:blipFill>
        <p:spPr>
          <a:xfrm>
            <a:off x="1258920" y="3716280"/>
            <a:ext cx="1944720" cy="252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20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чью он плывёт и днём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елит природа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морям, что мы зовём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АМИ ГОД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2" descr=""/>
          <p:cNvPicPr/>
          <p:nvPr/>
        </p:nvPicPr>
        <p:blipFill>
          <a:blip r:embed="rId1"/>
          <a:stretch/>
        </p:blipFill>
        <p:spPr>
          <a:xfrm>
            <a:off x="179280" y="1832040"/>
            <a:ext cx="2305080" cy="202860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3" descr=""/>
          <p:cNvPicPr/>
          <p:nvPr/>
        </p:nvPicPr>
        <p:blipFill>
          <a:blip r:embed="rId2"/>
          <a:stretch/>
        </p:blipFill>
        <p:spPr>
          <a:xfrm>
            <a:off x="1332000" y="4221000"/>
            <a:ext cx="2879640" cy="230040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4" descr=""/>
          <p:cNvPicPr/>
          <p:nvPr/>
        </p:nvPicPr>
        <p:blipFill>
          <a:blip r:embed="rId3"/>
          <a:stretch/>
        </p:blipFill>
        <p:spPr>
          <a:xfrm>
            <a:off x="3492360" y="1916280"/>
            <a:ext cx="2592360" cy="223344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5" descr=""/>
          <p:cNvPicPr/>
          <p:nvPr/>
        </p:nvPicPr>
        <p:blipFill>
          <a:blip r:embed="rId4"/>
          <a:stretch/>
        </p:blipFill>
        <p:spPr>
          <a:xfrm>
            <a:off x="5940360" y="3500280"/>
            <a:ext cx="2448000" cy="206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 rot="20667600">
            <a:off x="533160" y="968040"/>
            <a:ext cx="5846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ас в России, как и во всём мире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емён года – четыр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468360" y="3886200"/>
            <a:ext cx="7920000" cy="22795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ак, запомн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а года – эт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МА, ВЕСНА, ЛЕТО, ОСЕН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10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1000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1000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24000" y="1125360"/>
            <a:ext cx="8170560" cy="53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КОГДА У ТЕБЯ ДЕНЬ РОЖДЕНИЯ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ЗИМОЙ    ВЕСНОЙ    ЛЕТОМ    ОСЕНЬЮ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.  КОГДА ДЕНЬ РОЖДЕНИЯ У ГОДА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ЛЕТОМ       ОСЕНЬЮ     ВЕСНОЙ   ЗИМО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КОГДА ЗВЕРИ ЗАПАСАЮТ ПРОДУКТЫ НА ЗИМУ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ВЕСНОЙ                                         ОСЕНЬЮ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.В КАКОЕ ВРЕМЯ ГОДА ЦВЕТУТ САДЫ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ЗИМОЙ    ЛЕТОМ            ВЕСНОЙ       ОСЕНЬЮ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СКОЛЬКО ТЫ ЗНАЕШЬ ВРЕМЁН ГОДА И КАК ОН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НАЗЫВАЮТСЯ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72216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b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ВЕРЬ С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3T17:01:39Z</dcterms:created>
  <dc:creator>Сергей</dc:creator>
  <dc:description/>
  <dc:language>en-US</dc:language>
  <cp:lastModifiedBy>Сергей</cp:lastModifiedBy>
  <dcterms:modified xsi:type="dcterms:W3CDTF">2013-06-04T17:34:40Z</dcterms:modified>
  <cp:revision>19</cp:revision>
  <dc:subject/>
  <dc:title>Слайд 1</dc:title>
</cp:coreProperties>
</file>